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733E-F27E-4C1D-9788-D4B72C010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FC72-F0D3-4307-AA67-C643837F7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0A27-0BA9-44B7-B127-24C07691D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4503-1055-4730-9E65-EB8049D70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95EF-E564-4D44-81EA-B8E8064DD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0CFB-6F4B-49AD-A130-29104ECBB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0D2C-DC35-401A-AC7A-2F57B65A4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59FF-636B-4EF8-BC43-3206D9433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7A9C-5761-4B7E-9A4D-0F9673420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525F-6E8D-475B-95E1-051C88D03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5372-74D5-46E6-9979-DA945A6AF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F38F-CAB0-4306-AE56-DD90FF35A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2B1D2-199D-4D26-BAC6-9A8787EFB3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443640" y="1754280"/>
            <a:ext cx="447120" cy="433440"/>
            <a:chOff x="6443640" y="1754280"/>
            <a:chExt cx="447120" cy="433440"/>
          </a:xfrm>
        </p:grpSpPr>
        <p:sp>
          <p:nvSpPr>
            <p:cNvPr id="42" name=""/>
            <p:cNvSpPr/>
            <p:nvPr/>
          </p:nvSpPr>
          <p:spPr>
            <a:xfrm>
              <a:off x="6443640" y="175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6817680" y="198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" name=""/>
          <p:cNvGrpSpPr/>
          <p:nvPr/>
        </p:nvGrpSpPr>
        <p:grpSpPr>
          <a:xfrm>
            <a:off x="4643280" y="1754280"/>
            <a:ext cx="447120" cy="433440"/>
            <a:chOff x="4643280" y="1754280"/>
            <a:chExt cx="447120" cy="433440"/>
          </a:xfrm>
        </p:grpSpPr>
        <p:sp>
          <p:nvSpPr>
            <p:cNvPr id="45" name=""/>
            <p:cNvSpPr/>
            <p:nvPr/>
          </p:nvSpPr>
          <p:spPr>
            <a:xfrm>
              <a:off x="4643280" y="175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5017320" y="198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4714920" y="3556080"/>
            <a:ext cx="447120" cy="433440"/>
            <a:chOff x="4714920" y="3556080"/>
            <a:chExt cx="447120" cy="433440"/>
          </a:xfrm>
        </p:grpSpPr>
        <p:sp>
          <p:nvSpPr>
            <p:cNvPr id="48" name=""/>
            <p:cNvSpPr/>
            <p:nvPr/>
          </p:nvSpPr>
          <p:spPr>
            <a:xfrm>
              <a:off x="4714920" y="35560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088960" y="37846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2987640" y="3556080"/>
            <a:ext cx="447120" cy="433440"/>
            <a:chOff x="2987640" y="3556080"/>
            <a:chExt cx="447120" cy="433440"/>
          </a:xfrm>
        </p:grpSpPr>
        <p:sp>
          <p:nvSpPr>
            <p:cNvPr id="51" name=""/>
            <p:cNvSpPr/>
            <p:nvPr/>
          </p:nvSpPr>
          <p:spPr>
            <a:xfrm>
              <a:off x="2987640" y="35560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3361680" y="37846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914560" y="3843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3755160" y="5802120"/>
            <a:ext cx="447120" cy="433080"/>
            <a:chOff x="3755160" y="5802120"/>
            <a:chExt cx="447120" cy="433080"/>
          </a:xfrm>
        </p:grpSpPr>
        <p:sp>
          <p:nvSpPr>
            <p:cNvPr id="55" name=""/>
            <p:cNvSpPr/>
            <p:nvPr/>
          </p:nvSpPr>
          <p:spPr>
            <a:xfrm rot="10800000">
              <a:off x="3768840" y="580212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755160" y="586296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515280" y="4203720"/>
            <a:ext cx="447120" cy="433440"/>
            <a:chOff x="6515280" y="4203720"/>
            <a:chExt cx="447120" cy="433440"/>
          </a:xfrm>
        </p:grpSpPr>
        <p:sp>
          <p:nvSpPr>
            <p:cNvPr id="58" name=""/>
            <p:cNvSpPr/>
            <p:nvPr/>
          </p:nvSpPr>
          <p:spPr>
            <a:xfrm rot="10800000">
              <a:off x="6528960" y="4203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6515280" y="42642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914560" y="1754280"/>
            <a:ext cx="447120" cy="433440"/>
            <a:chOff x="2914560" y="1754280"/>
            <a:chExt cx="447120" cy="433440"/>
          </a:xfrm>
        </p:grpSpPr>
        <p:sp>
          <p:nvSpPr>
            <p:cNvPr id="61" name=""/>
            <p:cNvSpPr/>
            <p:nvPr/>
          </p:nvSpPr>
          <p:spPr>
            <a:xfrm>
              <a:off x="2914560" y="175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3288600" y="198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65320" y="53737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233360" y="545472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028880" y="359100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1415880" y="4368960"/>
            <a:ext cx="12960" cy="987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706920" y="54277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73880" y="38480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73520" y="38386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043840" y="2820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4040" y="204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00440" y="2031840"/>
            <a:ext cx="505080" cy="5353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208160" y="38703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4189320" y="4203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 flipV="1">
            <a:off x="1658520" y="4274640"/>
            <a:ext cx="208620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6931080" y="3198960"/>
            <a:ext cx="1162080" cy="804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703520" y="413244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876400" y="203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2987640" y="204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4714920" y="204300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6588000" y="3843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4788000" y="38433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3813120" y="54165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258920" y="5356080"/>
                <a:ext cx="36180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8170920" y="283536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3021120" y="38577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1316160" y="387972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6515280" y="204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4067280" y="1539720"/>
                <a:ext cx="5839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795240" y="4635360"/>
                <a:ext cx="549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4051440" y="117936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5219640" y="391464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 flipV="1">
            <a:off x="5180040" y="4132440"/>
            <a:ext cx="1303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19640" y="4132440"/>
            <a:ext cx="1250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394080" y="2298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02280" y="2313000"/>
            <a:ext cx="13190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18040" y="2506680"/>
            <a:ext cx="149868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1619280" y="2451240"/>
            <a:ext cx="132552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86440" y="2413080"/>
            <a:ext cx="1176480" cy="577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672240" y="2535120"/>
            <a:ext cx="33480" cy="1303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2338560" y="1179360"/>
                <a:ext cx="5648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359080" y="153972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3562200" y="1900080"/>
                <a:ext cx="549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5324400" y="1900080"/>
                <a:ext cx="5828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6083280" y="1395360"/>
                <a:ext cx="5335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7451640" y="3700440"/>
                <a:ext cx="8305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6738840" y="2835360"/>
                <a:ext cx="547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5722920" y="283536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894040" y="2835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914560" y="3195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4514760" y="3195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4498920" y="283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619280" y="290844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013120" y="374508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3689280" y="3740040"/>
                <a:ext cx="549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5372280" y="3735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5378400" y="4203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7380360" y="2259000"/>
                <a:ext cx="717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4334040" y="585936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354560" y="6180120"/>
                <a:ext cx="517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6999120" y="4491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7020000" y="4797360"/>
                <a:ext cx="517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7020000" y="513072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7043760" y="5462640"/>
                <a:ext cx="6015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5291280" y="4995720"/>
                <a:ext cx="5666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2281320" y="54151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2251080" y="5067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24000" y="189000"/>
                <a:ext cx="266544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２進数の和を計算する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チューリング機械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44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0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061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3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064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6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067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9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070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2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3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1074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6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1077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9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1080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2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8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9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0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1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2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3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4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5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6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7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8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9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0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1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12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0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1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2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3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4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5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6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7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8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9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0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1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2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3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4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5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6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7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8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9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0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1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2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3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4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5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6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7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9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0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1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2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3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4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5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6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7" name=""/>
          <p:cNvSpPr/>
          <p:nvPr/>
        </p:nvSpPr>
        <p:spPr>
          <a:xfrm>
            <a:off x="4788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1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2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3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4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6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177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9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180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2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183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5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186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8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9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1190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2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1193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5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1196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8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4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5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6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7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8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9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0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1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2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3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4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5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6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7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228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6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7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8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9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0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1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2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3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4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5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6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7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8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9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0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1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2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3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4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5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6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7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8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9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0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1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2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3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5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6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7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8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9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0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1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2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3" name=""/>
          <p:cNvSpPr/>
          <p:nvPr/>
        </p:nvSpPr>
        <p:spPr>
          <a:xfrm>
            <a:off x="521964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7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8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9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0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2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293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5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296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8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299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1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302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4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5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1306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8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1309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1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1312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4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0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1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2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3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4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5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6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7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8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9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0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1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2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3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344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367020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2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3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4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5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6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7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8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9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0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1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2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3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4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5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6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7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8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9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0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1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2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3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4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5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6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7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8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9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1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2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3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4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5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6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7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8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9" name=""/>
          <p:cNvSpPr/>
          <p:nvPr/>
        </p:nvSpPr>
        <p:spPr>
          <a:xfrm>
            <a:off x="4788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3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4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5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6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8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409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1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412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4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415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7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418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0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1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1422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4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1425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7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1428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0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6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7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8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9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0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1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2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3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4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5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6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7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8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9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460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8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9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0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1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2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3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4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5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6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7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8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9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0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1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2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3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4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5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6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7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8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9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0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1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2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3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4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5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7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8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9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0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1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2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3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4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5" name=""/>
          <p:cNvSpPr/>
          <p:nvPr/>
        </p:nvSpPr>
        <p:spPr>
          <a:xfrm>
            <a:off x="4356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9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0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1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2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4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525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7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528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0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531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3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534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6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7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1538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0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1541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3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1544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6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2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3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4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5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6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7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8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9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0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1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2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3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4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5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576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/>
          <p:cNvSpPr/>
          <p:nvPr/>
        </p:nvSpPr>
        <p:spPr>
          <a:xfrm>
            <a:off x="3656160" y="1452600"/>
            <a:ext cx="122364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4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5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6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7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8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9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0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1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2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3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4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5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6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7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8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9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0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1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2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3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4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5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6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7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8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9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0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11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3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4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5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6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7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8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9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0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1" name=""/>
          <p:cNvSpPr/>
          <p:nvPr/>
        </p:nvSpPr>
        <p:spPr>
          <a:xfrm>
            <a:off x="3924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5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6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7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8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0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641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3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644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6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647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9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650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2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3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1654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6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1657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9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1660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2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8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9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0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1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2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3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4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5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6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7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8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9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0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1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692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>
            <a:off x="365760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0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1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2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3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4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5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6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7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8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9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0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1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2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3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4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5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6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7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8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9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0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1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2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3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4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5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6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27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9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0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1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2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3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4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5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6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47" name=""/>
          <p:cNvSpPr/>
          <p:nvPr/>
        </p:nvSpPr>
        <p:spPr>
          <a:xfrm>
            <a:off x="3492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1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2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3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4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6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757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9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760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2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763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5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766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8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9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1770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2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1773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5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1776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8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4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5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6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7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8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9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0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1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2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3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4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5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6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7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808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6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7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8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9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0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1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2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3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4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5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6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7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8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9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0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1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2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3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4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5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6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7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8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9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0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1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2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3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5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6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7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8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9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0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1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2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63" name=""/>
          <p:cNvSpPr/>
          <p:nvPr/>
        </p:nvSpPr>
        <p:spPr>
          <a:xfrm>
            <a:off x="305928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7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8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9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0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2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873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5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876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8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879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1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882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4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5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1886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8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1889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1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1892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4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0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1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2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3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4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5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6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7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8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9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0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1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2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3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924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2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3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4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5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6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7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8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9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0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1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2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3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4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5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6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7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8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9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0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1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2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3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4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5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6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7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8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59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1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2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3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4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5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6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7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8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9" name=""/>
          <p:cNvSpPr/>
          <p:nvPr/>
        </p:nvSpPr>
        <p:spPr>
          <a:xfrm>
            <a:off x="262728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3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4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5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6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8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989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1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992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4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995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7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998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0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1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002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4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005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7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008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0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6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7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8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9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0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1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2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3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4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5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6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7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8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9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040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"/>
          <p:cNvSpPr/>
          <p:nvPr/>
        </p:nvSpPr>
        <p:spPr>
          <a:xfrm>
            <a:off x="367020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8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9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0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1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2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3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4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5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6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7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8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9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0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1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2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3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4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5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6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7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8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9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0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1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2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3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4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75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7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8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9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0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1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2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3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4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5" name=""/>
          <p:cNvSpPr/>
          <p:nvPr/>
        </p:nvSpPr>
        <p:spPr>
          <a:xfrm>
            <a:off x="305928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9" name=""/>
              <p:cNvSpPr txBox="1"/>
              <p:nvPr/>
            </p:nvSpPr>
            <p:spPr>
              <a:xfrm>
                <a:off x="2535120" y="5948280"/>
                <a:ext cx="227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0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1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2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4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2105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7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2108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0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2111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3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2114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6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7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118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0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121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3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124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6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2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3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4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5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6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7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8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9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0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1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2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3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4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5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156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4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5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6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7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8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9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0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1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2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3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4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5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6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7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8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9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0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1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2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3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4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5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6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7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8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9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0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1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3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4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5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6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7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8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9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0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11" name=""/>
          <p:cNvSpPr/>
          <p:nvPr/>
        </p:nvSpPr>
        <p:spPr>
          <a:xfrm>
            <a:off x="3492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5" name=""/>
              <p:cNvSpPr txBox="1"/>
              <p:nvPr/>
            </p:nvSpPr>
            <p:spPr>
              <a:xfrm>
                <a:off x="2535120" y="5948280"/>
                <a:ext cx="227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6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7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8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31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34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37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40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144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147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150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601200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324000" y="692280"/>
                <a:ext cx="180000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例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324000" y="1197000"/>
                <a:ext cx="22366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010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0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5076720" y="5950080"/>
                <a:ext cx="3319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3346560" y="593424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9" name=""/>
          <p:cNvSpPr/>
          <p:nvPr/>
        </p:nvSpPr>
        <p:spPr>
          <a:xfrm>
            <a:off x="521964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0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2221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3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2224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6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2227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9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2230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2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3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234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6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237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9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240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2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5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8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9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0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1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2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3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4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5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6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7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8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9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0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1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272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"/>
          <p:cNvSpPr/>
          <p:nvPr/>
        </p:nvSpPr>
        <p:spPr>
          <a:xfrm>
            <a:off x="36543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7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9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0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1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2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3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4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5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6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7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8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9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0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1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2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3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4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5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6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7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8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9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0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1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2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3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4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5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6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07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2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9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0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1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2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3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4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5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6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27" name=""/>
          <p:cNvSpPr/>
          <p:nvPr/>
        </p:nvSpPr>
        <p:spPr>
          <a:xfrm>
            <a:off x="3924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1" name=""/>
              <p:cNvSpPr txBox="1"/>
              <p:nvPr/>
            </p:nvSpPr>
            <p:spPr>
              <a:xfrm>
                <a:off x="2535120" y="5948280"/>
                <a:ext cx="227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2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3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4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5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6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2337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9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2340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2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2343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5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2346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8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9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350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2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353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5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356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8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9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4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5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6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7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8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9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0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1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2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3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4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5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6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7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388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9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0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1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2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3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4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6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7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8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9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0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1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2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3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4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5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6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7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8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9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0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1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2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3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4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5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6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7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8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9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0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1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2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23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4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5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6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7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8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2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3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5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6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7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8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9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0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1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2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43" name=""/>
          <p:cNvSpPr/>
          <p:nvPr/>
        </p:nvSpPr>
        <p:spPr>
          <a:xfrm>
            <a:off x="4356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4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5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6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7" name=""/>
              <p:cNvSpPr txBox="1"/>
              <p:nvPr/>
            </p:nvSpPr>
            <p:spPr>
              <a:xfrm>
                <a:off x="2535120" y="5948280"/>
                <a:ext cx="227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8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9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0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1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2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2453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4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5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2456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8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2459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0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1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2462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3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4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5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466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8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469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1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472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4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5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6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7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8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9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0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1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2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3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4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5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8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9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0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1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2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3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4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5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6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7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8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9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0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1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2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3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504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5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6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7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8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9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0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1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2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3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4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5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6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7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8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9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0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1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2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3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4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5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6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7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8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9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0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1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2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3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4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5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6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7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8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39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0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1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2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4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5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6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7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8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9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0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1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2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3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4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5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6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7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8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59" name=""/>
          <p:cNvSpPr/>
          <p:nvPr/>
        </p:nvSpPr>
        <p:spPr>
          <a:xfrm>
            <a:off x="4788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0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1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2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3" name=""/>
              <p:cNvSpPr txBox="1"/>
              <p:nvPr/>
            </p:nvSpPr>
            <p:spPr>
              <a:xfrm>
                <a:off x="2535120" y="5948280"/>
                <a:ext cx="227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4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5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6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7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8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2569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0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1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2572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3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4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2575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6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7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2578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9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0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1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582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4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585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7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588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0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1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2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3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4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5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6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7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8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9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0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1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2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3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4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5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6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7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8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9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0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1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2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3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4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5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6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7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8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9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620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1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2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3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4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5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6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7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8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9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0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1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2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3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4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5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6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7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8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9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0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1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2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3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4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5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6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7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8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9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0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1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2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3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4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55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6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7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8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9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0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1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2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3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4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5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6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7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8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9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0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1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2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3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4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5" name=""/>
          <p:cNvSpPr/>
          <p:nvPr/>
        </p:nvSpPr>
        <p:spPr>
          <a:xfrm>
            <a:off x="4356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6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7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8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9" name=""/>
              <p:cNvSpPr txBox="1"/>
              <p:nvPr/>
            </p:nvSpPr>
            <p:spPr>
              <a:xfrm>
                <a:off x="2535120" y="5948280"/>
                <a:ext cx="227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0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1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2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3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4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2685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6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7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2688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9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0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2691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3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2694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5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6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7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698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9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0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701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2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3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704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5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6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7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8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9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0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1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2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3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4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5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6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7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8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9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0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1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2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3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4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5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6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7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8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9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0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1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2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3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4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5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736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7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8" name=""/>
          <p:cNvSpPr/>
          <p:nvPr/>
        </p:nvSpPr>
        <p:spPr>
          <a:xfrm>
            <a:off x="3668760" y="14652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9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0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1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2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3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4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5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6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7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8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9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0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1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2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3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4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5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6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7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8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9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0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1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2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3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4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5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6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7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8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9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0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71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2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3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4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5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6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7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8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9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0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1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2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3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4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5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6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7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8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9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0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91" name=""/>
          <p:cNvSpPr/>
          <p:nvPr/>
        </p:nvSpPr>
        <p:spPr>
          <a:xfrm>
            <a:off x="3924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2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3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4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5" name=""/>
              <p:cNvSpPr txBox="1"/>
              <p:nvPr/>
            </p:nvSpPr>
            <p:spPr>
              <a:xfrm>
                <a:off x="2535120" y="5948280"/>
                <a:ext cx="227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6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7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8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9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0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2801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2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3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2804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5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6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2807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8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9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2810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1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2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3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814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5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6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817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8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9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820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1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2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3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4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5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6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7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8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9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0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1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2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3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4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5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6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7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8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9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0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1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2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3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4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5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6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7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8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9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0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1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852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3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4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5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6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7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8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9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0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1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2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3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4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5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6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7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8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9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0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1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2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3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4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5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6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7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8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9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0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1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2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3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4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5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6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87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8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9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0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1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2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3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4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5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6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7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8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9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0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1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2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3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4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5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6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07" name=""/>
          <p:cNvSpPr/>
          <p:nvPr/>
        </p:nvSpPr>
        <p:spPr>
          <a:xfrm>
            <a:off x="3492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8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9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0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1" name=""/>
              <p:cNvSpPr txBox="1"/>
              <p:nvPr/>
            </p:nvSpPr>
            <p:spPr>
              <a:xfrm>
                <a:off x="2535120" y="5948280"/>
                <a:ext cx="227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2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3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4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5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6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2917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8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9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2920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1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2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2923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4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5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2926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7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8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9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930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1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2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933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4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5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936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7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8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9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0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1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2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3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4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5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6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7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8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9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0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1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2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3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4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5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6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7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8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9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0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1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2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3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4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5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6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7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968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9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0" name=""/>
          <p:cNvSpPr/>
          <p:nvPr/>
        </p:nvSpPr>
        <p:spPr>
          <a:xfrm>
            <a:off x="3683160" y="1452600"/>
            <a:ext cx="1223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1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2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3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4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5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6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7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8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9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0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1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2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3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4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5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6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7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8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9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0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1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2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3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4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5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6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7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8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9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0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1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2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03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4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5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6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7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8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9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0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1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2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3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4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5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6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7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8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9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0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1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2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3" name=""/>
          <p:cNvSpPr/>
          <p:nvPr/>
        </p:nvSpPr>
        <p:spPr>
          <a:xfrm>
            <a:off x="305928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4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5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6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7" name=""/>
              <p:cNvSpPr txBox="1"/>
              <p:nvPr/>
            </p:nvSpPr>
            <p:spPr>
              <a:xfrm>
                <a:off x="2535120" y="5948280"/>
                <a:ext cx="227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8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9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0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1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2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3033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4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5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3036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7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8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3039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0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1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3042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3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4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5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3046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7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8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3049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0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1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3052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3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4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5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6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7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8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9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0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1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2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3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4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5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6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7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8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9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0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1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2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3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4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5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6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7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8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9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0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1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2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3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084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5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6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7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8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9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0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1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2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3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4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5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6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7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8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9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0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1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2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3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4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5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6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7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8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9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0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1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2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3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4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5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6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7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8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19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0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1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2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3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4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5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6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7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8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9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0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31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2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3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4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5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6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7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8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39" name=""/>
          <p:cNvSpPr/>
          <p:nvPr/>
        </p:nvSpPr>
        <p:spPr>
          <a:xfrm>
            <a:off x="262728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0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1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2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3" name=""/>
              <p:cNvSpPr txBox="1"/>
              <p:nvPr/>
            </p:nvSpPr>
            <p:spPr>
              <a:xfrm>
                <a:off x="2511360" y="5948280"/>
                <a:ext cx="28728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4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5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6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7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8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3149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0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1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3152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3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4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3155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6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7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3158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9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0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1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3162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3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4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3165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6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7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3168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9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0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1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2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3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4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5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6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7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8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9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0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1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2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3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4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5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6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7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8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9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0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1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2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3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4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5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6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7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8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9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200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1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2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3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4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5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6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7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08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9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0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1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2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3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4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5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6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7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8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9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0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1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2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3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4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5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6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7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8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9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0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1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2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3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4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35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6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7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8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9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0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1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2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3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4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5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6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7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8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9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0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1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2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3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4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55" name=""/>
          <p:cNvSpPr/>
          <p:nvPr/>
        </p:nvSpPr>
        <p:spPr>
          <a:xfrm>
            <a:off x="305928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6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7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8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9" name=""/>
              <p:cNvSpPr txBox="1"/>
              <p:nvPr/>
            </p:nvSpPr>
            <p:spPr>
              <a:xfrm>
                <a:off x="2476440" y="5934240"/>
                <a:ext cx="3621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0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1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2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3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4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3265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6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7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3268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9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0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3271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2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3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3274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5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6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7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3278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9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0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3281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2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3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3284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5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6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7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8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9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0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1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2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3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4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5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6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7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8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9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0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1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2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3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4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5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6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7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8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9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0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1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2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3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4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5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16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7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8" name=""/>
          <p:cNvSpPr/>
          <p:nvPr/>
        </p:nvSpPr>
        <p:spPr>
          <a:xfrm>
            <a:off x="36543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9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0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1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2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3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4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5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6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7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8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9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0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1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2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3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4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5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6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7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8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9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0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1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2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3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4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5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6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7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8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9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0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51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2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3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4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5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6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7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8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9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0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1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2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3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4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5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6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7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8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9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0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71" name=""/>
          <p:cNvSpPr/>
          <p:nvPr/>
        </p:nvSpPr>
        <p:spPr>
          <a:xfrm>
            <a:off x="3492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2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3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4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75" name=""/>
              <p:cNvSpPr txBox="1"/>
              <p:nvPr/>
            </p:nvSpPr>
            <p:spPr>
              <a:xfrm>
                <a:off x="2476440" y="5934240"/>
                <a:ext cx="3621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6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7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8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249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252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255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258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62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65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68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00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656160" y="1452600"/>
            <a:ext cx="1223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601200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5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5087880" y="5932440"/>
                <a:ext cx="33336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3346560" y="593424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5" name=""/>
          <p:cNvSpPr/>
          <p:nvPr/>
        </p:nvSpPr>
        <p:spPr>
          <a:xfrm>
            <a:off x="521964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9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0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3381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2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3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3384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5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6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3387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8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9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3390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1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2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3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3394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5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6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3397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8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9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3400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1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2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3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4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5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6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7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8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9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0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1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2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3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4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5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6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7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8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9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0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1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2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3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4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5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6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7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8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9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0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1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432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3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4" name=""/>
          <p:cNvSpPr/>
          <p:nvPr/>
        </p:nvSpPr>
        <p:spPr>
          <a:xfrm>
            <a:off x="367020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5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6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7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8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9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40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1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2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3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4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5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6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7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8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9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0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1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2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3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4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5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6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7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8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9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0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1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2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3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4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5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6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67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8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9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0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1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2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3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4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5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6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7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8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9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0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1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2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3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4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5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6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87" name=""/>
          <p:cNvSpPr/>
          <p:nvPr/>
        </p:nvSpPr>
        <p:spPr>
          <a:xfrm>
            <a:off x="3924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8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9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0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1" name=""/>
              <p:cNvSpPr txBox="1"/>
              <p:nvPr/>
            </p:nvSpPr>
            <p:spPr>
              <a:xfrm>
                <a:off x="2476440" y="5934240"/>
                <a:ext cx="3621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2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3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4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5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6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3497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8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9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3500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1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2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3503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4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5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3506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7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8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9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3510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1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2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3513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4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5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3516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7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8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9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0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1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2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3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4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5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6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7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8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9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0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1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2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3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4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5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6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7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8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9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0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1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2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3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4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5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6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7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548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9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0" name=""/>
          <p:cNvSpPr/>
          <p:nvPr/>
        </p:nvSpPr>
        <p:spPr>
          <a:xfrm>
            <a:off x="36543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1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2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3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4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5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6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7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8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9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0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1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2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3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4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5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6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7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8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9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0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1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2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3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4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5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6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7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8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9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0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1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2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83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4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5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6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7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8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9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0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1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2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3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4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5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6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7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8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9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0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1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2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03" name=""/>
          <p:cNvSpPr/>
          <p:nvPr/>
        </p:nvSpPr>
        <p:spPr>
          <a:xfrm>
            <a:off x="4356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4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5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6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7" name=""/>
              <p:cNvSpPr txBox="1"/>
              <p:nvPr/>
            </p:nvSpPr>
            <p:spPr>
              <a:xfrm>
                <a:off x="2476440" y="5934240"/>
                <a:ext cx="3621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8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9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0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1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2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3613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4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5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3616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7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8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3619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0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1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3622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3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4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5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3626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7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8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3629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0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1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3632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3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4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5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6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7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8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9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0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1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2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3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4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5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6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7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8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9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0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1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2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3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4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5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6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7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8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9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0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1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2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3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664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5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6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7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8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9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0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1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2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3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4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5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6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7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8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9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0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1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2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3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4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5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6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7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8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9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0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1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2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3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4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5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6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7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8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99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0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1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2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3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4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5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6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7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8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9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0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1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2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3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4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5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6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7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8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19" name=""/>
          <p:cNvSpPr/>
          <p:nvPr/>
        </p:nvSpPr>
        <p:spPr>
          <a:xfrm>
            <a:off x="3924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0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1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2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23" name=""/>
              <p:cNvSpPr txBox="1"/>
              <p:nvPr/>
            </p:nvSpPr>
            <p:spPr>
              <a:xfrm>
                <a:off x="2476440" y="5934240"/>
                <a:ext cx="3621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4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5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6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7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8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3729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0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1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3732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3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4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3735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6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7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3738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9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0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1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3742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3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4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3745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6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7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3748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9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0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1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2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3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4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5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6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7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8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9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0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1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2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3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4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5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66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7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8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9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0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1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2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3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4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5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6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7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8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9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780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1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2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3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4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5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6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7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88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9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0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1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2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3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4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5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6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7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8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9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0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1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2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3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4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5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6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7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8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9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0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1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2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3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4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15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6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7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8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9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0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1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2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3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4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5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6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27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8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9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0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1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2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3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4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35" name=""/>
          <p:cNvSpPr/>
          <p:nvPr/>
        </p:nvSpPr>
        <p:spPr>
          <a:xfrm>
            <a:off x="3492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6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7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8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9" name=""/>
              <p:cNvSpPr txBox="1"/>
              <p:nvPr/>
            </p:nvSpPr>
            <p:spPr>
              <a:xfrm>
                <a:off x="2476440" y="5934240"/>
                <a:ext cx="3621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0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1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2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843" name=""/>
          <p:cNvGrpSpPr/>
          <p:nvPr/>
        </p:nvGrpSpPr>
        <p:grpSpPr>
          <a:xfrm>
            <a:off x="2484360" y="2492280"/>
            <a:ext cx="2808360" cy="1079640"/>
            <a:chOff x="2484360" y="2492280"/>
            <a:chExt cx="2808360" cy="1079640"/>
          </a:xfrm>
        </p:grpSpPr>
        <p:sp>
          <p:nvSpPr>
            <p:cNvPr id="3844" name=""/>
            <p:cNvSpPr/>
            <p:nvPr/>
          </p:nvSpPr>
          <p:spPr>
            <a:xfrm>
              <a:off x="2484360" y="2492280"/>
              <a:ext cx="2808360" cy="1079640"/>
            </a:xfrm>
            <a:prstGeom prst="wedgeRoundRectCallout">
              <a:avLst>
                <a:gd name="adj1" fmla="val -71425"/>
                <a:gd name="adj2" fmla="val 146615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5" name=""/>
            <p:cNvSpPr/>
            <p:nvPr/>
          </p:nvSpPr>
          <p:spPr>
            <a:xfrm>
              <a:off x="2668680" y="2608200"/>
              <a:ext cx="244944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333399"/>
                  </a:solidFill>
                  <a:latin typeface="Arial"/>
                </a:rPr>
                <a:t>受理状態に遷移し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333399"/>
                  </a:solidFill>
                  <a:latin typeface="Arial"/>
                </a:rPr>
                <a:t>計算が終了した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3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365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368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371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374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378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381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384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16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601200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1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3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7" name=""/>
              <p:cNvSpPr txBox="1"/>
              <p:nvPr/>
            </p:nvSpPr>
            <p:spPr>
              <a:xfrm>
                <a:off x="3346560" y="593424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8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1" name=""/>
          <p:cNvSpPr/>
          <p:nvPr/>
        </p:nvSpPr>
        <p:spPr>
          <a:xfrm>
            <a:off x="4788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481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484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487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490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494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497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500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2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0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1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2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6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7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8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0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1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32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7" name=""/>
              <p:cNvSpPr txBox="1"/>
              <p:nvPr/>
            </p:nvSpPr>
            <p:spPr>
              <a:xfrm>
                <a:off x="601200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8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9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0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1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2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3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4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9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1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6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7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9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0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2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3346560" y="593424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4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5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6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7" name=""/>
          <p:cNvSpPr/>
          <p:nvPr/>
        </p:nvSpPr>
        <p:spPr>
          <a:xfrm>
            <a:off x="4356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1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2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3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4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597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9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600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603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606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8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610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613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616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8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8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9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0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6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7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48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6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7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8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9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1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2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3" name=""/>
              <p:cNvSpPr txBox="1"/>
              <p:nvPr/>
            </p:nvSpPr>
            <p:spPr>
              <a:xfrm>
                <a:off x="601200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4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5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6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7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8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9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0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2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3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4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6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7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8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9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1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2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3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5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6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7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8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9" name=""/>
              <p:cNvSpPr txBox="1"/>
              <p:nvPr/>
            </p:nvSpPr>
            <p:spPr>
              <a:xfrm>
                <a:off x="3346560" y="593424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0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1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2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3" name=""/>
          <p:cNvSpPr/>
          <p:nvPr/>
        </p:nvSpPr>
        <p:spPr>
          <a:xfrm>
            <a:off x="3924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7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8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9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0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2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713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5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716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719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722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4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726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8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729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1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732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4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0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3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4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5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6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7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8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9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0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1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2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3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64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367020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2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3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4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5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6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7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8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9" name=""/>
              <p:cNvSpPr txBox="1"/>
              <p:nvPr/>
            </p:nvSpPr>
            <p:spPr>
              <a:xfrm>
                <a:off x="601200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0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1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2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3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4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5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6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7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8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9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0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1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2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3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4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5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6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7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8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9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1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2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3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4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5" name=""/>
              <p:cNvSpPr txBox="1"/>
              <p:nvPr/>
            </p:nvSpPr>
            <p:spPr>
              <a:xfrm>
                <a:off x="3346560" y="593424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6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7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8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9" name=""/>
          <p:cNvSpPr/>
          <p:nvPr/>
        </p:nvSpPr>
        <p:spPr>
          <a:xfrm>
            <a:off x="3492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3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4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5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6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8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829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1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832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4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835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838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0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1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842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4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845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848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0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6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7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8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9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0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1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2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3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4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5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6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7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8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9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880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8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9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0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1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2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3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4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5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6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7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8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9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0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1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2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3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4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5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6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7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8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9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0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1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2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3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4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5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7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8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9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0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1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2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3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4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5" name=""/>
          <p:cNvSpPr/>
          <p:nvPr/>
        </p:nvSpPr>
        <p:spPr>
          <a:xfrm>
            <a:off x="3924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9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0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1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2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4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945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7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948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0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951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3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954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6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7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958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0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961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3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964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6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2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3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4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5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6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7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8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9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0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1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2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3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4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5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96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4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5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6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7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8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9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0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1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2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3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4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5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6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7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8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9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0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1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2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3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4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5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6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7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8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9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0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1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3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4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5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6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7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8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9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0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1" name=""/>
          <p:cNvSpPr/>
          <p:nvPr/>
        </p:nvSpPr>
        <p:spPr>
          <a:xfrm>
            <a:off x="4356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5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6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7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8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0T10:13:52Z</dcterms:created>
  <dc:creator>政明</dc:creator>
  <dc:description/>
  <dc:language>en-US</dc:language>
  <cp:lastModifiedBy>政明</cp:lastModifiedBy>
  <dcterms:modified xsi:type="dcterms:W3CDTF">2004-10-11T17:03:32Z</dcterms:modified>
  <cp:revision>17</cp:revision>
  <dc:subject/>
  <dc:title>スライド 1</dc:title>
</cp:coreProperties>
</file>